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EAB-D00D-4245-B8F2-A2ECD0D8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3FB-EAA2-4DF3-9E98-584F8CD8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4E924-F242-44F7-9B21-9E1CE10C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8F7FE-8933-4C3C-BDAE-E352DE84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58901-9BCD-47D5-9D77-D0FBB06D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49311-2B9C-48EA-B470-D692A11E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9E8D9-ECC8-41EF-99B2-D4DA2C5E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5ADE5-0239-4546-89F1-3668B704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EDC49-1A82-4D29-83E8-238EFFA2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1BD96-BF9A-41DF-81DB-C751FEA9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726B0-697F-4DFB-B38D-BBD2EF72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7CAB0-2592-4033-8054-ABC15D8B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2F4-8FD1-47EC-A522-93DC4D6C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80410-4323-4030-BDC2-90C9160D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1197B-285C-48B3-B4D2-A03CD6C9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31868-7B51-4152-A97F-5C2F146E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945E4-EF66-4026-AA93-52D82B45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960BF-0D32-462A-AC02-DD795C47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D4031-52D4-45F6-B173-EDDB785F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4B647-8049-48A8-9E66-D023B114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EFE4C-2EB6-4841-9EA6-3BCC3163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C8EA9-D71E-4190-9613-D9046CEA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61D4B-A39E-4B06-8296-F39812D7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F05-A206-4CAC-868D-E565A7F2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B6E93-66CA-431F-8E02-1CE6B5A5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89331-9BD6-4691-BA02-AC017C64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5A812-4A80-43AB-9243-DA084D1E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539A3-0532-40CC-B3D9-7F427D51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50258-21EE-4C66-B6A4-049F093B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CB1C7-8FE1-4CFC-BC3B-7063A46E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6CBE5-B241-41D9-96C3-BD6777F8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DB440-6435-4919-958F-3C7A9E28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EECA9-5E46-49DC-9856-090C7F61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968AA-55A5-4035-B1E3-FA676108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59AF-EC8E-417F-BBAA-0EF0C454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92431-932B-4879-AD71-18BC1A38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FF2A3-9637-4F5C-B1A6-3A9A4F93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1F2D0-8D2D-4EA3-973A-04D4525A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88E6D-7323-4BC6-AA78-BC75C73D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161FF-53C1-4CF3-9FCE-4C854B42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B97B0-D187-4595-9927-F463328E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CA8B9-6B4A-4A59-824F-9BAB03EF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0A623-DE4B-43F7-9CCF-F5E24988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146B5-5C20-463A-A9E8-B41B38B8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05D12-04B1-4C70-93A9-51C25893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B715-45AE-4271-A7FD-9AFB30F9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3D1C2-F759-4C05-B6BA-04888CCE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73572-9B51-4ED6-9DE0-DF6B29CB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64D21-3241-4051-B71E-9267AD45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F2409-F719-4300-BC8E-BB61419E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06BA6-D0FE-4735-A458-432BEB88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A880-AD91-4459-AD1F-C46A3832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7C07-C2AF-43C7-AFF2-F8708040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658A-B5E1-4E96-8C1C-08E2E90D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599C-443D-4CC3-80C9-75DB3A8B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54B0-738B-4A90-83EC-D71802BC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7D0-00BB-4222-822E-95E4664B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D3DA-296C-4711-A041-6A56B28B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80E3-7811-47AB-AB6D-1C9086FC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3584-6F81-4E8D-ADC5-6279DB23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A280-1C5D-4497-9B60-C4EA23E1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B19D-26FA-4C81-B37A-6DE69D3E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5B4F3-F552-4F5C-9A59-6C2F8E9B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B1E64-AC0C-4281-B153-244C5B66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7EB1B-02D3-4316-A209-02659263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04C97-B43D-4566-97F0-AC91A095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AB413-87F7-44F9-809D-EEC94B76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760-D15E-4718-AF11-FC27356E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278A8-911A-4104-9D06-6661C014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F0D52-58EB-4955-8543-B09BE51C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7F1CC-7057-4A84-AAF2-6AE32D61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5E9D8-E147-403B-B5D7-46C3E224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8EE36-0F92-4ADE-8A58-CB4EDD61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6C0ED-37EF-48F5-945A-9D654696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CF170-AABB-4484-A8D0-2A237C21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00C94-B4D7-4DDA-9E02-5C940FBE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34DB-4A39-4751-968E-E58D85A9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0338A-401E-473E-A61D-35DC1210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39F-3239-40C9-BEB6-B12BC304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16A86-548D-4798-84A9-57271FB2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B3D3C-6005-4D1E-957A-2746724E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CE2BE-7B8B-47A6-BD3F-757716AD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9637C-7A49-4CFA-B1B6-4E6B512F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3CFCB-59ED-419A-A8E0-BE8BF0DA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C2DD0-029C-4DE7-894E-460B63DE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6C80C-D4D7-46F2-9599-22B1710E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74043-A51E-421C-9E92-68F40348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A5F6B-3507-41E6-86E7-07EC7339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10A78-BFA5-42D5-ACE5-07C65C91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5700-B33A-44B3-8B49-D332BA89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31EF4-9E6D-4AB5-A13C-878764A8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24E0D-5C89-4722-B344-7E96432D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73164-1443-4AF9-BC89-6CEDBBAC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164C1-0BEF-429D-906B-24172408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54190-47BA-49B1-BB21-E3103EF1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66096-9D98-49AB-AE4D-EDE456E8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47C18-0B95-49E2-B057-53D6E4A2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86C14-920A-4A24-8CF8-00F5397A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61B0D-999B-47D5-BEB3-AB6C5767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FFC85-5DDC-48AE-B27B-87786433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3AB-6898-4B5D-8239-EB8984D4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0EF90-D275-4D0E-A85F-F4BD9B1E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0B4A4-D27D-4EE7-8F98-537335A6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315DC-0055-49E0-935C-476D4575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6A7B9-A584-483F-9334-45A0E0CA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9CD0A-8AB3-442C-AA88-1628984A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C8F39-0689-41A6-BBE0-37A999A3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7A435-016D-4081-B901-406E7317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D9F7C-BA65-4515-BB28-AA01D439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1F206-1631-4036-A83A-D8674AD9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9F240-F3C8-473C-8144-14877FDF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6EE-5739-447A-91E2-D149448B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EDAC0-32A0-4E4B-AD93-A0C598FD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516F6-8CA5-49C7-A6F7-7CC78FB1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A7EC0-09DB-49E1-8C4E-FA37ADD2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C9DDB-B38C-46D7-A7B8-B100430D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C154F-29BF-4F28-832B-A47170D9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42C43-A971-4B00-A77F-B1CBD7E6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7DBBE-61B1-4BB4-98C6-F975790C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3FC81-27C0-4DCE-9B51-19C758D1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A9B20-342C-4C9C-811E-138E56AE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03D77-9ACE-49C5-B9D1-BC6C5996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762-4F7F-4EC6-8743-8A418D8D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E7485-B04F-4199-B401-8DA876C1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51DAE-4ADA-41B6-BF5B-AC7E100E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F8422-5D71-470B-BC97-CF6FEF4A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A5B69-1E61-433C-A56D-654BD8A6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A5C9A-2DDB-4FF2-A652-FBCA099D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41CBF-DB89-461B-943B-A0AA2494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1467D-8FD4-4C05-ADDE-7B873352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65E06-8536-46FA-87AF-7A29C26C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1D473-B407-48D7-94D5-6A55B80E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55D1D-C1A3-4BE8-8251-B3623FA7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4A74-42D0-443A-AA36-269BD65A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6EC03-AC9F-43FC-BC57-CA97C96F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5051F-7FCE-479C-82DD-1B26E8A7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E38F3-717C-4E70-8DEA-53B9AB0E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5C0EF-663E-4D51-B474-9DD21A58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70E52-AAA4-4889-8AD1-CDFBB4F4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115D8-3657-4D85-9B19-0893EAB9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B4BFA-ED23-4D6D-9865-1AD8B6B7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0ABD7-E392-423A-BD00-689C85D5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46E78-929D-4E42-B522-A0930E71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5BC4E-DA4C-4BC4-95FA-B2330CD9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FEB3-E272-4722-965C-C1275809B6B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CBDF-3142-4943-AFF8-7D93D718173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FFDE-8E25-4B37-BE0E-A07DDCCE071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A8DF-50B7-44D1-9527-CE1F065F703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A39F-AA94-4089-BCDA-CE487091F2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304C-1D24-4052-A651-8140C9822CE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128D-DE42-4AED-8BFA-BFB4D2FAE1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2AA6-8C19-4CB1-AF5D-FD92A1A649F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AB35-FC8B-4F10-BAD4-6447F57C01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9510-29E7-4D2A-B3EA-1CD131665A6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FC9A-8547-476B-A11F-7059C672D5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3C6B-19DE-41D3-AC23-97E29C7A52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85 Oslavujme Ježiš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kupiteľ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slavuj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stupcu hriešnikov, Krist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úchom spás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 nás odie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Pán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a, smrti i súd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sť tá moc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ým nech zaznie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krátko u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javí sa v sláve n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dným na sú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ným na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ľme Kris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on je Spasiteľ sve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ieseň vďa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ievajme nadšene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slavuj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a, Vykupiteľ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znie o ň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u zvesť radostn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a, sl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saj a spievaj, ľud Bož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cesta, pravda i život n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pastier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dí on ovce svo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žne nosí slabé a zrane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ľme Kris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on je Spasiteľ sve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ieseň vďa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ievajme nadšen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rúcnou piesň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aránka Božieho chváľ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mrel za nás na kríži Golg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vyšuj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eno tak drahé a vzácne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, Ježi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í Syn presvätý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uje láskou večn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ňho ži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úžme mu oddan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ľme Kris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on je Spasiteľ sve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ieseň vďa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ievajme nadšen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14T17:59:36Z</dcterms:modified>
  <cp:revision>14</cp:revision>
  <dc:subject/>
  <dc:title>Je veľký náš Pán, on slávy je Kráľ Nech do všetkých strán  spev vrúcnych znie chvál.</dc:title>
</cp:coreProperties>
</file>